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3893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D53A6-EC07-4A8E-B39F-34726FEEA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4A929-9447-47A3-B14A-DFA42D42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C962A-5B54-4D41-BCEA-21187E3CB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CB2F9-6176-4A18-869E-1FD130252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29E7-B3A7-4254-8002-097B59AFB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15C4-3C19-4F8D-9F9B-1BB52CE1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6196-BF93-45B0-B366-4A2465409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D909-92AA-40FC-91F9-2926C17A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913A-F41E-4331-B10D-8A45ECB0B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C7AA-8E70-49A0-9371-B87D8378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3018-9535-4CC6-AB57-3B8A1775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9D4E-1DFB-469C-B9BF-FFB69A32D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4EB1-43B0-4EC6-952E-8127BD478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153960"/>
            <a:ext cx="2843280" cy="35474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an unregulated private water supply?</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unregulated private water supply is any supply that is not provided by or regulated by a Sanitary Authority i.e. County or City Council.  It is any private supply (including individual well supplies) that provides less than 10 cubic meters a day of water or serves less than 50 people and does </a:t>
            </a:r>
            <a:r>
              <a:rPr b="1" lang="en-US" sz="800" spc="-1" strike="noStrike">
                <a:solidFill>
                  <a:srgbClr val="000000"/>
                </a:solidFill>
                <a:latin typeface="Times New Roman"/>
              </a:rPr>
              <a:t>not </a:t>
            </a:r>
            <a:r>
              <a:rPr b="0" lang="en-US" sz="800" spc="-1" strike="noStrike">
                <a:solidFill>
                  <a:srgbClr val="000000"/>
                </a:solidFill>
                <a:latin typeface="Times New Roman"/>
              </a:rPr>
              <a:t>have a public or commercial activity. Examples of public or commercial activities include - restaurant or bed and breakfas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y is this leaflet need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the majority of private water supplies are safe to drink most of the time, they can be at risk from contamination. A number of serious illnesses caused by pathogens, such as </a:t>
            </a:r>
            <a:r>
              <a:rPr b="0" i="1" lang="en-US" sz="800" spc="-1" strike="noStrike">
                <a:solidFill>
                  <a:srgbClr val="000000"/>
                </a:solidFill>
                <a:latin typeface="Times New Roman"/>
              </a:rPr>
              <a:t>E. coli O157</a:t>
            </a:r>
            <a:r>
              <a:rPr b="0" lang="en-US" sz="800" spc="-1" strike="noStrike">
                <a:solidFill>
                  <a:srgbClr val="000000"/>
                </a:solidFill>
                <a:latin typeface="Times New Roman"/>
              </a:rPr>
              <a:t> and </a:t>
            </a:r>
            <a:r>
              <a:rPr b="0" i="1" lang="en-US" sz="800" spc="-1" strike="noStrike">
                <a:solidFill>
                  <a:srgbClr val="000000"/>
                </a:solidFill>
                <a:latin typeface="Times New Roman"/>
              </a:rPr>
              <a:t>Cryptosporidium </a:t>
            </a:r>
            <a:r>
              <a:rPr b="0" lang="en-US" sz="800" spc="-1" strike="noStrike">
                <a:solidFill>
                  <a:srgbClr val="000000"/>
                </a:solidFill>
                <a:latin typeface="Times New Roman"/>
              </a:rPr>
              <a:t>can be transmitted through contaminated drinking water supplies. It is essential that you keep your private water supply safe from contamination to protect your health, and your family’s heal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Legal Backgroun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nty and City Councils are required (by the European Communities (Drinking Water) Regulations (No. 2) 2007 (S.I. No. 278 of 2007)) to provide owners and users of unregulated private water supplies with information about the risks of contamination and with advice about what they can do to protect their supplies and keep them safe. This leaflet is intended to fulfill this oblig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 name=""/>
          <p:cNvSpPr/>
          <p:nvPr/>
        </p:nvSpPr>
        <p:spPr>
          <a:xfrm>
            <a:off x="2987640" y="57600"/>
            <a:ext cx="3022560" cy="231516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the problem?</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 drinking water is essential to good health. Unregulated private water supplies can pose a risk to health unless they are properly protected and treated. They may become contaminated with microbes, such as bacteria, or chemicals. Some of these are harmless, but others may cause serious illness, particularly in vulnerable people such as the elderly, the very young, pregnant women and sick people. You may not be able to tell without sampling and analysis whether your water supply is safe because the contamination may not change the taste, smell or colour of your water.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leaflet explains how you can protect your supply and reduce the risk of contamination. It also describes the different types of unregulated private water supplies, and potential causes of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 name=""/>
          <p:cNvSpPr/>
          <p:nvPr/>
        </p:nvSpPr>
        <p:spPr>
          <a:xfrm>
            <a:off x="2987640" y="3213720"/>
            <a:ext cx="2882880" cy="1981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How do water supplies become contaminated?</a:t>
            </a:r>
            <a:endParaRPr b="0" lang="en-US" sz="900" spc="-1" strike="noStrike">
              <a:solidFill>
                <a:srgbClr val="000000"/>
              </a:solidFill>
              <a:latin typeface="Times New Roman"/>
            </a:endParaRPr>
          </a:p>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prings, wells and boreholes</a:t>
            </a:r>
            <a:endParaRPr b="0" lang="en-US" sz="9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ings, wells and boreholes may get contaminated at the point where -</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spring emerges from the ground</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water collects in the borehole or well</a:t>
            </a:r>
            <a:endParaRPr b="0" lang="en-US" sz="8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Springs and shallow wells that draw water from close to the surface are more likely to be contaminated than springs, wells and boreholes that draw water from deep underground. In farmland, underground water can pick up nitrates or pesticides from their use on crops. It can also pick up pathogens from faeces of grazing animals or the spreading of manure or slurry. </a:t>
            </a:r>
            <a:endParaRPr b="0" lang="en-US" sz="800" spc="-1" strike="noStrike">
              <a:solidFill>
                <a:srgbClr val="000000"/>
              </a:solidFill>
              <a:latin typeface="Times New Roman"/>
            </a:endParaRPr>
          </a:p>
        </p:txBody>
      </p:sp>
      <p:sp>
        <p:nvSpPr>
          <p:cNvPr id="44" name=""/>
          <p:cNvSpPr/>
          <p:nvPr/>
        </p:nvSpPr>
        <p:spPr>
          <a:xfrm>
            <a:off x="2987640" y="5085720"/>
            <a:ext cx="2928960" cy="1585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treams, rivers, ponds and lak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quality of water from streams, rivers, ponds and lakes will generally not be as good as that from springs, wells and boreholes. The quality will also vary depending on weather conditions and activities in the catchment area. These waters are more likely to be contaminated, particularly from bacteria, at times of high rainfall and warm weather. Water that runs across the land into the streams, rivers, ponds or lakes can be contaminated from various sources such as soil, crops and faeces of farm animals, wild animals, vermin and birds.</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 name=""/>
          <p:cNvSpPr/>
          <p:nvPr/>
        </p:nvSpPr>
        <p:spPr>
          <a:xfrm>
            <a:off x="6227640" y="-1440"/>
            <a:ext cx="2320920" cy="733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      </a:t>
            </a:r>
            <a:r>
              <a:rPr b="1" lang="en-US" sz="1200" spc="-1" strike="noStrike">
                <a:solidFill>
                  <a:srgbClr val="333399"/>
                </a:solidFill>
                <a:latin typeface="Times New Roman"/>
                <a:ea typeface="Times New Roman"/>
              </a:rPr>
              <a:t>WHAT SHOULD YOU DO?</a:t>
            </a:r>
            <a:endParaRPr b="0" lang="en-US" sz="12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ea typeface="Times New Roman"/>
              </a:rPr>
              <a:t>1 - Find out about your supply</a:t>
            </a: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sp>
        <p:nvSpPr>
          <p:cNvPr id="46" name=""/>
          <p:cNvSpPr/>
          <p:nvPr/>
        </p:nvSpPr>
        <p:spPr>
          <a:xfrm>
            <a:off x="6156360" y="693000"/>
            <a:ext cx="2847960" cy="945720"/>
          </a:xfrm>
          <a:prstGeom prst="rect">
            <a:avLst/>
          </a:prstGeom>
          <a:noFill/>
          <a:ln w="0">
            <a:noFill/>
          </a:ln>
        </p:spPr>
        <p:style>
          <a:lnRef idx="0"/>
          <a:fillRef idx="0"/>
          <a:effectRef idx="0"/>
          <a:fontRef idx="minor"/>
        </p:style>
        <p:txBody>
          <a:bodyPr lIns="90000" rIns="90000" tIns="46800" bIns="46800" anchor="ctr">
            <a:spAutoFit/>
          </a:bodyPr>
          <a:p>
            <a:pPr>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o is responsible for its maintenance – if not clear, consider reaching agreement with other user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ere is the source of the water and what type of source – spring, well, borehole, stream/river, pond or lak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at route does it take to get to your property?</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s it treated in any way – and if so is the treatment equipment in good order and serviced regularly?</a:t>
            </a:r>
            <a:endParaRPr b="0" lang="en-US" sz="800" spc="-1" strike="noStrike">
              <a:solidFill>
                <a:srgbClr val="000000"/>
              </a:solidFill>
              <a:latin typeface="Times New Roman"/>
            </a:endParaRPr>
          </a:p>
        </p:txBody>
      </p:sp>
      <p:sp>
        <p:nvSpPr>
          <p:cNvPr id="47" name=""/>
          <p:cNvSpPr/>
          <p:nvPr/>
        </p:nvSpPr>
        <p:spPr>
          <a:xfrm>
            <a:off x="6235560" y="1438200"/>
            <a:ext cx="2908440" cy="25740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2 - Keep your supply safe</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all parts of your supply regularly to check that it is in good condition and has not been interfered with or damaged. This means looking at the source of the supply, including the catchment area of the source, at any collection chamber and treatment plant, and the pipe work to your property.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prings, wells and borehol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source is adequately protected to stop surface water getting into your supply, particularly at times of heavy rain. There should be no ponding of water near the sourc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at the well head is clean and animals cannot get close.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e integrity of any slurry and silage storage in the area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il, fertilizer, pesticides or other chemicals should not be stored or left in the pump-house or close to the well.</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200240" y="2341440"/>
            <a:ext cx="1699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9" name=""/>
          <p:cNvSpPr/>
          <p:nvPr/>
        </p:nvSpPr>
        <p:spPr>
          <a:xfrm>
            <a:off x="179280" y="189000"/>
            <a:ext cx="2556000" cy="309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KEEPING YOUR</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PRIVATE WATER SUPPLY SAFE</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1200" spc="-1" strike="noStrike">
                <a:solidFill>
                  <a:srgbClr val="333399"/>
                </a:solidFill>
                <a:latin typeface="Times New Roman"/>
              </a:rPr>
              <a:t>Information for Unregulated Private Water Supplies</a:t>
            </a:r>
            <a:endParaRPr b="0" lang="en-US" sz="1200" spc="-1" strike="noStrike">
              <a:solidFill>
                <a:srgbClr val="000000"/>
              </a:solidFill>
              <a:latin typeface="Times New Roman"/>
            </a:endParaRPr>
          </a:p>
        </p:txBody>
      </p:sp>
      <p:sp>
        <p:nvSpPr>
          <p:cNvPr id="50" name=""/>
          <p:cNvSpPr/>
          <p:nvPr/>
        </p:nvSpPr>
        <p:spPr>
          <a:xfrm>
            <a:off x="6213600" y="14400"/>
            <a:ext cx="1440" cy="68292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895480" y="0"/>
            <a:ext cx="1800" cy="679752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rcRect l="0" t="14815" r="23404" b="0"/>
          <a:stretch/>
        </p:blipFill>
        <p:spPr>
          <a:xfrm>
            <a:off x="3419640" y="2205000"/>
            <a:ext cx="2333520" cy="1062000"/>
          </a:xfrm>
          <a:prstGeom prst="rect">
            <a:avLst/>
          </a:prstGeom>
          <a:ln w="12600">
            <a:solidFill>
              <a:srgbClr val="969696"/>
            </a:solidFill>
            <a:miter/>
          </a:ln>
        </p:spPr>
      </p:pic>
      <p:pic>
        <p:nvPicPr>
          <p:cNvPr id="53" name="" descr=""/>
          <p:cNvPicPr/>
          <p:nvPr/>
        </p:nvPicPr>
        <p:blipFill>
          <a:blip r:embed="rId2"/>
          <a:stretch/>
        </p:blipFill>
        <p:spPr>
          <a:xfrm>
            <a:off x="611280" y="189000"/>
            <a:ext cx="1504800" cy="1582560"/>
          </a:xfrm>
          <a:prstGeom prst="rect">
            <a:avLst/>
          </a:prstGeom>
          <a:ln w="0">
            <a:noFill/>
          </a:ln>
        </p:spPr>
      </p:pic>
      <p:sp>
        <p:nvSpPr>
          <p:cNvPr id="54" name=""/>
          <p:cNvSpPr/>
          <p:nvPr/>
        </p:nvSpPr>
        <p:spPr>
          <a:xfrm>
            <a:off x="6257880" y="3440880"/>
            <a:ext cx="2886120" cy="170676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treams, rivers, ponds and lakes</a:t>
            </a:r>
            <a:r>
              <a:rPr b="0" i="1" lang="en-US" sz="900" spc="-1" strike="noStrike">
                <a:solidFill>
                  <a:srgbClr val="000000"/>
                </a:solidFill>
                <a:latin typeface="Times New Roman"/>
              </a:rPr>
              <a:t> </a:t>
            </a:r>
            <a:endParaRPr b="0" lang="en-US" sz="9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ettlement pond or collection chamber to allow larger particles to settle out before water flows into your supply.</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and or gravel filter to remove organic material such as leaves, small particles and small animals before water flows into your supply. These filters will not remove all small organisms or chemical contamination.</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water source is not contaminated upstream by  forestry works, slurry or other effluent, e.g. septic tanks etc.</a:t>
            </a:r>
            <a:endParaRPr b="0" lang="en-US" sz="800" spc="-1" strike="noStrike">
              <a:solidFill>
                <a:srgbClr val="000000"/>
              </a:solidFill>
              <a:latin typeface="Times New Roman"/>
            </a:endParaRPr>
          </a:p>
        </p:txBody>
      </p:sp>
      <p:sp>
        <p:nvSpPr>
          <p:cNvPr id="55" name=""/>
          <p:cNvSpPr/>
          <p:nvPr/>
        </p:nvSpPr>
        <p:spPr>
          <a:xfrm>
            <a:off x="6334200" y="5084640"/>
            <a:ext cx="2809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800" spc="-1" strike="noStrike">
                <a:solidFill>
                  <a:srgbClr val="333399"/>
                </a:solidFill>
                <a:latin typeface="Times New Roman"/>
              </a:rPr>
              <a:t>For supplies from farmland</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Divert rainwater run-off so that it does not flow into or towards your source – for example into a small ditch leading away from your source.</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farmer is aware of your water supply and the need to avoid contaminating it by farming activities such as animals grazing, spreading of manure or slurry, or, the use of fertilizers and pesticides.  </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Fencing may be necessary to keep farm and wild animals from your water source.</a:t>
            </a:r>
            <a:endParaRPr b="0" lang="en-US" sz="800" spc="-1" strike="noStrike">
              <a:solidFill>
                <a:srgbClr val="000000"/>
              </a:solidFill>
              <a:latin typeface="Times New Roman"/>
            </a:endParaRPr>
          </a:p>
        </p:txBody>
      </p:sp>
      <p:sp>
        <p:nvSpPr>
          <p:cNvPr id="56" name=""/>
          <p:cNvSpPr/>
          <p:nvPr/>
        </p:nvSpPr>
        <p:spPr>
          <a:xfrm>
            <a:off x="3995640" y="6597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32000" y="836640"/>
            <a:ext cx="280836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333399"/>
                </a:solidFill>
                <a:latin typeface="Times New Roman"/>
              </a:rPr>
              <a:t>5 - Consider your pipe work</a:t>
            </a:r>
            <a:endParaRPr b="0" lang="en-US" sz="9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ny unregulated supplies are naturally acidic and may dissolve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lead from lead pipes (or lead tanks). If your water supply passes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through lead pipes, either inside or outside your property, it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y contain high levels of lead. Lead can be particularly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harmful to infants and young children. You should consider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either adding an alkali to make the water less acidic or replacing</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the lead pipe work with plastic pipe work. </a:t>
            </a:r>
            <a:endParaRPr b="0" lang="en-US" sz="800" spc="-1" strike="noStrike">
              <a:solidFill>
                <a:srgbClr val="000000"/>
              </a:solidFill>
              <a:latin typeface="Times New Roman"/>
            </a:endParaRPr>
          </a:p>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Times New Roman"/>
            </a:endParaRPr>
          </a:p>
        </p:txBody>
      </p:sp>
      <p:sp>
        <p:nvSpPr>
          <p:cNvPr id="58" name=""/>
          <p:cNvSpPr/>
          <p:nvPr/>
        </p:nvSpPr>
        <p:spPr>
          <a:xfrm>
            <a:off x="228600" y="318960"/>
            <a:ext cx="2871720" cy="33660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262440"/>
            <a:ext cx="2862360" cy="1432440"/>
          </a:xfrm>
          <a:prstGeom prst="rect">
            <a:avLst/>
          </a:prstGeom>
          <a:noFill/>
          <a:ln w="0">
            <a:noFill/>
          </a:ln>
        </p:spPr>
        <p:style>
          <a:lnRef idx="0"/>
          <a:fillRef idx="0"/>
          <a:effectRef idx="0"/>
          <a:fontRef idx="minor"/>
        </p:style>
        <p:txBody>
          <a:bodyPr lIns="90000" rIns="90000" tIns="46800" bIns="46800" anchor="ctr">
            <a:spAutoFit/>
          </a:bodyPr>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re appropriate, make sure the source has watertight walls and lid.</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top of any chamber or tank is above ground level to prevent water from the surrounding land flowing into it.</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sure any overflow pipes or vents are designed to stop small animals and debris from entering the chamber or tank.</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ource should not be close to any discharge, soak-away or drain.</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0" y="2638800"/>
            <a:ext cx="3124080" cy="15696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Times New Roman"/>
              </a:rPr>
              <a:t>If  you are a farmer</a:t>
            </a:r>
            <a:endParaRPr b="0" lang="en-US" sz="9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European Communities (Good Agricultural Practice for Protection of Waters) Regulations (S.I. 788 of 2005) require that you do not spread fertilizer in close proximity to the abstraction point. (A separate handbook on the Regulation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Rural Environment Protection Scheme (REPS) requires that animals be fenced out of watercourses/waterbodies. (A handbook on REP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 name=""/>
          <p:cNvSpPr/>
          <p:nvPr/>
        </p:nvSpPr>
        <p:spPr>
          <a:xfrm>
            <a:off x="179280" y="4055400"/>
            <a:ext cx="2886120" cy="14634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3 - Consider getting your supply check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dvisable to have your well tested once a year for bacterial contamination, and once every three years for chemical or metal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concerned that your supply may be contaminated you should get it checked. Contact your local County or City Council in the first instance.</a:t>
            </a:r>
            <a:r>
              <a:rPr b="1" lang="en-US" sz="800" spc="-1" strike="noStrike">
                <a:solidFill>
                  <a:srgbClr val="000000"/>
                </a:solidFill>
                <a:latin typeface="Times New Roman"/>
              </a:rPr>
              <a:t> </a:t>
            </a:r>
            <a:r>
              <a:rPr b="0" lang="en-US" sz="800" spc="-1" strike="noStrike">
                <a:solidFill>
                  <a:srgbClr val="000000"/>
                </a:solidFill>
                <a:latin typeface="Times New Roman"/>
              </a:rPr>
              <a:t>Alternatively, you can arrange to have a sample tested using a private laboratory. But remember that a test can only tell you about the quality of your supply at the time of the test, and the quality of water may change at different times.</a:t>
            </a:r>
            <a:endParaRPr b="0" lang="en-US" sz="800" spc="-1" strike="noStrike">
              <a:solidFill>
                <a:srgbClr val="000000"/>
              </a:solidFill>
              <a:latin typeface="Times New Roman"/>
            </a:endParaRPr>
          </a:p>
        </p:txBody>
      </p:sp>
      <p:sp>
        <p:nvSpPr>
          <p:cNvPr id="62" name=""/>
          <p:cNvSpPr/>
          <p:nvPr/>
        </p:nvSpPr>
        <p:spPr>
          <a:xfrm>
            <a:off x="179280" y="5667120"/>
            <a:ext cx="2808360" cy="1189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know or suspect that your supply is contaminated you should consider getting it treated to remove the contamination. If your supply also serves other properties it is better and cheaper to install treatment for the whole supply, provided the other property owners agree, than to install treatment at each property. The choice of treatment must suit your supply and the contamination presen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
          <p:cNvSpPr/>
          <p:nvPr/>
        </p:nvSpPr>
        <p:spPr>
          <a:xfrm>
            <a:off x="3276720" y="129960"/>
            <a:ext cx="1368360" cy="143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however, that a once-off disinfection procedure cannot replace a proper treatment system if your supply needs continuous disinfec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lways use Water Treatment Contractors who are suitably qualified &amp; experienc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 name=""/>
          <p:cNvSpPr/>
          <p:nvPr/>
        </p:nvSpPr>
        <p:spPr>
          <a:xfrm>
            <a:off x="3132000" y="2217600"/>
            <a:ext cx="2854440" cy="27266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6 - What else can you do?</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no longer want to use your unregulated private supply because of the cost of treating or improving it, you may be able to connect to a regulated public supply. You should contact this authority (contact details below) to enquire if this is possible. It may not be feasible if the nearest regulated public supply is some distance away.</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7– Maintenance of Pipeline </a:t>
            </a:r>
            <a:r>
              <a:rPr b="0" lang="en-GB" sz="800" spc="-1" strike="noStrike">
                <a:solidFill>
                  <a:srgbClr val="000000"/>
                </a:solidFill>
                <a:latin typeface="Times New Roman"/>
              </a:rPr>
              <a:t>Scour (flush out) the pipeline at least 4  times per year and always after a break in the line. Ensure non return valves are fitted where an untreated supply (example is a supply used for purposes other than drinking water) may contaminate a drinking water supply where pipe networks are interconnect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8 – pH issu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nsure pH levels are monitored particularly for ground water sources, as low pH can cause leaching of certain substances into the water supply (example copper pipework can be affected by low pH). Treatment is available for water supplies with a low pH.</a:t>
            </a:r>
            <a:endParaRPr b="0" lang="en-US" sz="800" spc="-1" strike="noStrike">
              <a:solidFill>
                <a:srgbClr val="000000"/>
              </a:solidFill>
              <a:latin typeface="Times New Roman"/>
            </a:endParaRPr>
          </a:p>
        </p:txBody>
      </p:sp>
      <p:sp>
        <p:nvSpPr>
          <p:cNvPr id="65" name=""/>
          <p:cNvSpPr/>
          <p:nvPr/>
        </p:nvSpPr>
        <p:spPr>
          <a:xfrm>
            <a:off x="3203640" y="4940640"/>
            <a:ext cx="2889360" cy="1668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Sources and types of contamination</a:t>
            </a:r>
            <a:endParaRPr b="0" lang="en-US" sz="9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Bacteria</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possible source of bacteria is animal faeces. Water supplies drawn from farmland where animals graze or where manure or slurry is spread are most at risk, particularly where rainwater can run directly off farmland into the water source. Malfunctioning septic tanks are another possible source. Premised owners should ensure that they are properly maintained and serviced.</a:t>
            </a:r>
            <a:r>
              <a:rPr b="1" lang="en-US" sz="800" spc="-1" strike="noStrike">
                <a:solidFill>
                  <a:srgbClr val="000000"/>
                </a:solidFill>
                <a:latin typeface="Times New Roman"/>
              </a:rPr>
              <a:t> </a:t>
            </a:r>
            <a:r>
              <a:rPr b="0" lang="en-US" sz="800" spc="-1" strike="noStrike">
                <a:solidFill>
                  <a:srgbClr val="000000"/>
                </a:solidFill>
                <a:latin typeface="Times New Roman"/>
              </a:rPr>
              <a:t>People who do not drink the water regularly, such as visitors and guests, are at the greatest risk of contracting a disease or infection due to pathogens in the water supply.</a:t>
            </a:r>
            <a:endParaRPr b="0" lang="en-US" sz="800" spc="-1" strike="noStrike">
              <a:solidFill>
                <a:srgbClr val="000000"/>
              </a:solidFill>
              <a:latin typeface="Times New Roman"/>
            </a:endParaRPr>
          </a:p>
        </p:txBody>
      </p:sp>
      <p:sp>
        <p:nvSpPr>
          <p:cNvPr id="66" name=""/>
          <p:cNvSpPr/>
          <p:nvPr/>
        </p:nvSpPr>
        <p:spPr>
          <a:xfrm>
            <a:off x="6084720" y="222840"/>
            <a:ext cx="2900520" cy="47854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Chemicals</a:t>
            </a:r>
            <a:endParaRPr b="0" lang="en-US" sz="900" spc="-1" strike="noStrike">
              <a:solidFill>
                <a:srgbClr val="000000"/>
              </a:solidFill>
              <a:latin typeface="Times New Roman"/>
            </a:endParaRPr>
          </a:p>
          <a:p>
            <a:pPr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sible sources of chemicals in a water supply include industrial premises and workshops, mining and quarrying (both operating and abandoned), and road and driveway run-off. Farming and forestry (use of fertilizers, pesticides and sheep dips ) are another possible source. Artificial fertilizers and slurry contain nitrogen. Water with high levels of nitrates may not be suitable for pregnant women, bottle-fed infants and young children.</a:t>
            </a:r>
            <a:endParaRPr b="0" lang="en-US" sz="800" spc="-1" strike="noStrike">
              <a:solidFill>
                <a:srgbClr val="000000"/>
              </a:solidFill>
              <a:latin typeface="Times New Roman"/>
            </a:endParaRPr>
          </a:p>
          <a:p>
            <a:pPr algn="just">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Metals</a:t>
            </a:r>
            <a:endParaRPr b="0" lang="en-US" sz="9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ad can be picked up from lead pipe work. Water with high lead levels may not be suitable for infants and young children.</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rsenic can be found as a naturally occurring trace element particularly in ground water supplies. Low levels of Arsenic can be harmful when consumed over long periods and should be removed by installing a proper treatment system.</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don and uranium may be present in the water source because of the nature of the rocks in the catchment, particularly in the granite areas. High levels may be harmful. Advice can be obtained from the Radiological Protection Institute (Tel: 01-2697766). </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ron and Manganese are very common in ground water supplies in Kerry and can, unless treated, result in;</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Objectionable taste and odour in the water supply</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taining of w.c.’s, baths, wash hand basins &amp; shower trays.</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ludge forming in internal plumbing pipework.</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eatment is available for removal of iron &amp; Manganese from the water supply. However very elevated levels of both are expensive to treat and switching to an alternative source may be advisable where one is available.</a:t>
            </a:r>
            <a:endParaRPr b="0" lang="en-US" sz="8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 name=""/>
          <p:cNvSpPr/>
          <p:nvPr/>
        </p:nvSpPr>
        <p:spPr>
          <a:xfrm>
            <a:off x="6156360" y="5196240"/>
            <a:ext cx="2746440" cy="70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Where can you get further advice?</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any questions or want further advice about your unregulated private water supply, the contact in this Council is</a:t>
            </a:r>
            <a:r>
              <a:rPr b="1" lang="en-US" sz="800" spc="-1" strike="noStrike">
                <a:solidFill>
                  <a:srgbClr val="000000"/>
                </a:solidFill>
                <a:latin typeface="Times New Roman"/>
              </a:rPr>
              <a:t> [Rural Water Office], Tel:</a:t>
            </a:r>
            <a:r>
              <a:rPr b="0" lang="en-US" sz="800" spc="-1" strike="noStrike">
                <a:solidFill>
                  <a:srgbClr val="000000"/>
                </a:solidFill>
                <a:latin typeface="Times New Roman"/>
              </a:rPr>
              <a:t>    066 7183513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8" name="" descr=""/>
          <p:cNvPicPr/>
          <p:nvPr/>
        </p:nvPicPr>
        <p:blipFill>
          <a:blip r:embed="rId1"/>
          <a:srcRect l="0" t="5189" r="0" b="16854"/>
          <a:stretch/>
        </p:blipFill>
        <p:spPr>
          <a:xfrm>
            <a:off x="4859280" y="115920"/>
            <a:ext cx="1084320" cy="1371600"/>
          </a:xfrm>
          <a:prstGeom prst="rect">
            <a:avLst/>
          </a:prstGeom>
          <a:ln w="0">
            <a:noFill/>
          </a:ln>
        </p:spPr>
      </p:pic>
      <p:sp>
        <p:nvSpPr>
          <p:cNvPr id="69" name=""/>
          <p:cNvSpPr/>
          <p:nvPr/>
        </p:nvSpPr>
        <p:spPr>
          <a:xfrm>
            <a:off x="179280" y="5443560"/>
            <a:ext cx="2303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4 - Consider treating your supply</a:t>
            </a:r>
            <a:endParaRPr b="0" lang="en-US" sz="900" spc="-1" strike="noStrike">
              <a:solidFill>
                <a:srgbClr val="000000"/>
              </a:solidFill>
              <a:latin typeface="Times New Roman"/>
            </a:endParaRPr>
          </a:p>
        </p:txBody>
      </p:sp>
      <p:pic>
        <p:nvPicPr>
          <p:cNvPr id="70" name="" descr=""/>
          <p:cNvPicPr/>
          <p:nvPr/>
        </p:nvPicPr>
        <p:blipFill>
          <a:blip r:embed="rId2"/>
          <a:srcRect l="0" t="25253" r="0" b="0"/>
          <a:stretch/>
        </p:blipFill>
        <p:spPr>
          <a:xfrm>
            <a:off x="179280" y="1413000"/>
            <a:ext cx="2710080" cy="1218960"/>
          </a:xfrm>
          <a:prstGeom prst="rect">
            <a:avLst/>
          </a:prstGeom>
          <a:ln w="0">
            <a:noFill/>
          </a:ln>
        </p:spPr>
      </p:pic>
      <p:sp>
        <p:nvSpPr>
          <p:cNvPr id="71" name=""/>
          <p:cNvSpPr/>
          <p:nvPr/>
        </p:nvSpPr>
        <p:spPr>
          <a:xfrm>
            <a:off x="4067280" y="6535800"/>
            <a:ext cx="64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09:25:16Z</dcterms:created>
  <dc:creator>mcnally_p</dc:creator>
  <dc:description/>
  <dc:language>en-US</dc:language>
  <cp:lastModifiedBy>Administrator</cp:lastModifiedBy>
  <dcterms:modified xsi:type="dcterms:W3CDTF">2010-09-06T11:48:22Z</dcterms:modified>
  <cp:revision>52</cp:revision>
  <dc:subject/>
  <dc:title>PowerPoint Presentation</dc:title>
</cp:coreProperties>
</file>